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12.gif" ContentType="image/gif"/>
  <Override PartName="/ppt/media/image10.wmf" ContentType="image/x-wmf"/>
  <Override PartName="/ppt/media/image9.gif" ContentType="image/gif"/>
  <Override PartName="/ppt/media/image8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4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4.gif" ContentType="image/gif"/>
  <Override PartName="/ppt/media/image16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CFE0-BBDB-4B10-8BA5-DA39C6DD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E0E9-31D5-4264-90E6-06CDA2C2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60E6-C973-4C13-B92E-2E3AC81A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AAE2-2B54-46E8-90DD-6F9B384D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0EB0-8E95-41F3-8827-2A5551C2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3398-594B-4726-9FB7-FD0C7147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D6E-C43E-47B9-9811-3941589B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8A5-0405-4671-B259-46F46A00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7D6-ACBA-4B99-9C63-CF418361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0F37-930A-436B-A7AC-2C314233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0AD2-5C99-4991-9E45-7294A238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F637-0CBD-420C-95B4-A75C2A08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6777-B837-467E-8184-B49C15F3F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SN00789A0000%5B1%5D.wav" TargetMode="External"/><Relationship Id="rId2" Type="http://schemas.microsoft.com/office/2007/relationships/media" Target="file:///tmp/home/.config/libreoffice/4/user/gallery/MSSN00789A0000%5B1%5D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file:///tmp/home/.config/libreoffice/4/user/gallery/MSj03884540000%5B1%5D.wav" TargetMode="External"/><Relationship Id="rId3" Type="http://schemas.microsoft.com/office/2007/relationships/media" Target="file:///tmp/home/.config/libreoffice/4/user/gallery/MSj03884540000%5B1%5D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file:///tmp/home/.config/libreoffice/4/user/gallery/MSj00746900000%5B1%5D.wav" TargetMode="External"/><Relationship Id="rId3" Type="http://schemas.microsoft.com/office/2007/relationships/media" Target="file:///tmp/home/.config/libreoffice/4/user/gallery/MSj00746900000%5B1%5D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SN00542A0000%5B1%5D.wav" TargetMode="External"/><Relationship Id="rId2" Type="http://schemas.microsoft.com/office/2007/relationships/media" Target="file:///tmp/home/.config/libreoffice/4/user/gallery/MSSN00542A0000%5B1%5D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d Dog, Dodger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and Amazing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leach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ised seats on which people sit to watch sports gam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505320" y="3657600"/>
            <a:ext cx="3124080" cy="2498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077320" y="609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1839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ctat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ople who watch an eve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676680" cy="351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ug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shelter where baseball players sit when they’re waiting to pl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19520" y="37339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oper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bedi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mpan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si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prim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oper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way people and animals act or beha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76720" y="3657600"/>
            <a:ext cx="1841400" cy="1774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1841400" cy="1816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82296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838188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86104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81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14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9299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113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7048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oper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people or animals work together to accomplish a go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2589120" cy="3457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758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bedi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a person or an animal is willing to do what they are told to 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62520" y="3352680"/>
            <a:ext cx="3649680" cy="33051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person or animal who spends times with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3810240" cy="3408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sid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think about something carefully before making a decis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048200" y="2928960"/>
            <a:ext cx="3647880" cy="348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3059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6734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prim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get a talking to, a warning, or a scolding for doing something wro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848720" y="609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48120" y="3962520"/>
            <a:ext cx="2895480" cy="2570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406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ocabulary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abb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ew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s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r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gg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ripp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each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pectat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ug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f animals or people are sure about things or are certain they have the ability to do someth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2169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5"/>
                </p:tgtEl>
              </p:cMediaNode>
            </p:audio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per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something is done in a correct w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62320" y="3581280"/>
            <a:ext cx="4538520" cy="2589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3584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9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repeat an action in order to impro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52920" y="2657520"/>
            <a:ext cx="3967200" cy="3330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4582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67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abb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ok hold of something suddenl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09680" y="3360600"/>
            <a:ext cx="4694400" cy="3497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ew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inding something between your tee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05920" y="533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438280" y="3124080"/>
            <a:ext cx="4510080" cy="3235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359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a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 after someon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5328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743200" y="2362320"/>
            <a:ext cx="3780000" cy="3963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138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e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special gift, often foo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3663720" cy="3968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gg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ved from side to sid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4286160" cy="3600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458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8132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rip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liquid falling slowly, drop by dro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581280" y="3122640"/>
            <a:ext cx="3276720" cy="3243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5345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2059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5:01:32Z</dcterms:created>
  <dc:creator>dyera</dc:creator>
  <dc:description/>
  <dc:language>en-US</dc:language>
  <cp:lastModifiedBy>dyera</cp:lastModifiedBy>
  <dcterms:modified xsi:type="dcterms:W3CDTF">2008-02-25T21:38:40Z</dcterms:modified>
  <cp:revision>5</cp:revision>
  <dc:subject/>
  <dc:title>Bad Dog, Dodger! Vocabulary and Amazing Words</dc:title>
</cp:coreProperties>
</file>